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37.gif" ContentType="image/gif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7151-30DF-4890-9D9D-EDF6A859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E841-F51E-49FD-AE4A-2D6BA140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C2D2-961A-4EDF-B9F9-1E9006B8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952F-D143-4E3F-95B6-EBD82312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AA94-F233-407A-AB21-A418C9E9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B574-E299-4B7D-8F7D-CA5B9053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C777-CD4C-48E7-80D3-A280C545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86C3-0FFC-418B-B2B3-9C7929CA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2234-4282-40DD-9EEB-08410847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ACAD-0E04-4663-BEE7-AB0A968A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0E20-E64F-45E1-92F0-971439B9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320F-9CF3-4F19-B86C-87634F86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F546-205C-44CD-B232-48DFB4A5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5E36-75DF-4AF2-BD7D-7D352593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66B4-7FBA-448B-9D27-0BB223AD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A75B-8CA3-4F57-9252-0ED9056F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DF0B-8ED7-4005-BEF2-BB2CE97B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6290-0DA8-4469-B6F9-26E092B2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1AA9-FD16-4935-A57D-7673A56A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D3C4-4954-44D1-991C-8012E81D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0953-8B08-417E-8BEA-148710EB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1E32-D040-4BDE-8FD5-7E00424C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9C63-DA79-4736-B50C-805E9E08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25CA-44E1-4039-8432-6A9E4FB5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64A33-B055-43E4-9522-F5EE776133C5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46C2B1-D835-4DB1-8C3F-2FFD856F1BE0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F2AC07-E186-4C7A-AEA2-384E1299EAB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47E142-1ADF-4819-9AC8-4A20A33B12A8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FC5F8E-FF41-4899-AEC0-9FB2796D3E96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ohandas K. Gandhi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A Life in Pictures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895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Natal Congress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In South Africa he soon became involved in protecting the rights of Indian migrant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ere he is shown with other members of the Natal Indian Congres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Placeholder 5" descr="1895_Natal_Indian_Congress.jpg"/>
          <p:cNvPicPr/>
          <p:nvPr/>
        </p:nvPicPr>
        <p:blipFill>
          <a:blip r:embed="rId2"/>
          <a:srcRect l="0" t="-75972" r="0" b="-75972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899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ambulance corps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During the Boer War,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formed the Indian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Ambulance Corp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heir unassuming dauntlessness cost them many lives and eventually an order was published forbidding them to go into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he firing line.”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(Mr. Vere Kent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Johannesburg </a:t>
            </a:r>
            <a:r>
              <a:rPr b="0" i="1" lang="en-US" sz="1800" spc="-1" strike="noStrike">
                <a:solidFill>
                  <a:srgbClr val="595959"/>
                </a:solidFill>
                <a:latin typeface="News Gothic MT"/>
              </a:rPr>
              <a:t>Illustrated Star</a:t>
            </a: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)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Placeholder 5" descr="1899_Gandhi_Boer_War.jpg"/>
          <p:cNvPicPr/>
          <p:nvPr/>
        </p:nvPicPr>
        <p:blipFill>
          <a:blip r:embed="rId2"/>
          <a:srcRect l="0" t="-58913" r="0" b="-58913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02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with Kasturbhai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Mohandas and Kasturbai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ere married when they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ere both aged 13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Later Gandhi became a campaigner against child marriag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Placeholder 5" descr="1902_Gandhi_and_Kasturbhai.jpg"/>
          <p:cNvPicPr/>
          <p:nvPr/>
        </p:nvPicPr>
        <p:blipFill>
          <a:blip r:embed="rId2"/>
          <a:srcRect l="0" t="-61275" r="0" b="-61275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02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family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Kasturbai (Ba) is shown with their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four children (all boys):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arilal, born in 1888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Manilal, born in 1892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Ramdas, born in 1897 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Devdas, born in 1900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Placeholder 5" descr="1902_Kasturba_and_children.jpg"/>
          <p:cNvPicPr/>
          <p:nvPr/>
        </p:nvPicPr>
        <p:blipFill>
          <a:blip r:embed="rId2"/>
          <a:srcRect l="0" t="-15726" r="0" b="-15726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08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recuperating 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was sometimes subject to physical beatings because of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is activism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hen this photo was taken he was recovering from a beating at the hands of other Indians, who objected to the compromise Gandhi made with General Smuts regarding the Pass Law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Placeholder 5" descr="1908_recuperating_after_assault.jpg"/>
          <p:cNvPicPr/>
          <p:nvPr/>
        </p:nvPicPr>
        <p:blipFill>
          <a:blip r:embed="rId2"/>
          <a:srcRect l="0" t="-43496" r="0" b="-43496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9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10: 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letter to Tolstoy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9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olstoy: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“I want to tell others what I feel particularly clearly and what to my mind is of great importance – namely that which is called nonviolent resistance – but which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is really nothing else but the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eaching of love”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Placeholder 5" descr="1910_letter_to_Tolstoy.jpg"/>
          <p:cNvPicPr/>
          <p:nvPr/>
        </p:nvPicPr>
        <p:blipFill>
          <a:blip r:embed="rId2"/>
          <a:srcRect l="0" t="-9063" r="0" b="-9063"/>
          <a:stretch/>
        </p:blipFill>
        <p:spPr>
          <a:xfrm>
            <a:off x="4156200" y="76320"/>
            <a:ext cx="4592520" cy="6676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Placeholder 5" descr="1910_Gandhi_Tolstoy_Farm.jpg"/>
          <p:cNvPicPr/>
          <p:nvPr/>
        </p:nvPicPr>
        <p:blipFill>
          <a:blip r:embed="rId2"/>
          <a:srcRect l="0" t="-66078" r="0" b="-66078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10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Tolstoy Farm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21 miles from Johannesburg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’s second venture into communal living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he first had been Phoenix Farm near Durban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Later Gandhi founded ashrams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in India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12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with Gokhale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Many important Indians had become aware of Gandhi’s campaigning in South Africa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ere he is shown with Gokhale, a senior leader of the Indian Nationalist movement, who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became Gandhi’s political ‘guru’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Placeholder 6" descr="1912_Gandhi_and_Gokhale.jpg"/>
          <p:cNvPicPr/>
          <p:nvPr/>
        </p:nvPicPr>
        <p:blipFill>
          <a:blip r:embed="rId2"/>
          <a:srcRect l="0" t="-2676" r="0" b="-2676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13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Transvaal march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A protest against the ban on Indian immigration, and the ruling that only Christian marriages were lega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hoped the marchers would be sent to jail when they entered the Transvaa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Eventually there was a compromise with the government of General Smut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Placeholder 5" descr="1913_Transvaal_Protest_March.jpg"/>
          <p:cNvPicPr/>
          <p:nvPr/>
        </p:nvPicPr>
        <p:blipFill>
          <a:blip r:embed="rId2"/>
          <a:srcRect l="0" t="-77352" r="0" b="-77352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13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 Satyagraha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called his method ‘Satyagraha’, meaning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‘struggle for truth’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e was prepared to sacrifice his own well-being in order to change the hearts of his opponent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Placeholder 5" descr="1913_Gandhi_and_policeman.jpg"/>
          <p:cNvPicPr/>
          <p:nvPr/>
        </p:nvPicPr>
        <p:blipFill>
          <a:blip r:embed="rId2"/>
          <a:srcRect l="0" t="-67888" r="0" b="-67888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876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as a child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his is the earliest picture of Mohandas Karamchand Gandhi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e is aged 7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Placeholder 5" descr="1876_Young_gandhi_age7.jpg"/>
          <p:cNvPicPr/>
          <p:nvPr/>
        </p:nvPicPr>
        <p:blipFill>
          <a:blip r:embed="rId2"/>
          <a:srcRect l="0" t="-6339" r="0" b="-6339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13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the Satyagrahi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ceased to wear European clothe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e believed that simple dress was appropriate for defending the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rights of ordinary Indians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Placeholder 5" descr="Gandhi_satyagrahi.jpg"/>
          <p:cNvPicPr/>
          <p:nvPr/>
        </p:nvPicPr>
        <p:blipFill>
          <a:blip r:embed="rId2"/>
          <a:srcRect l="-750" t="0" r="-750" b="0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15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a hero in India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’s successes in South Africa were well known throughout India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In this picture he is welcomed in Karachi, now in modern-day Pakistan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Placeholder 5" descr="1915_Gandhi_welcomed_in_Karachi.gif"/>
          <p:cNvPicPr/>
          <p:nvPr/>
        </p:nvPicPr>
        <p:blipFill>
          <a:blip r:embed="rId2"/>
          <a:srcRect l="0" t="-46929" r="0" b="-46929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29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Gandhi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his picture shows the ‘iconic’ Gandhi, who had developed by the age of 60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By this time Gandhi had established himself on the Indian political scene, and achieved many notable victories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Placeholder 5" descr="1929_Gandhi.jpg"/>
          <p:cNvPicPr/>
          <p:nvPr/>
        </p:nvPicPr>
        <p:blipFill>
          <a:blip r:embed="rId2"/>
          <a:srcRect l="0" t="-3995" r="0" b="-3995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30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Salt march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was very clever at picking his campaign issue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Although the British tax on salt did not raise much money, it was symbolic of the lack of freedom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for Indians in their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own country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Placeholder 6" descr="800px-Marche_sel.jpg"/>
          <p:cNvPicPr/>
          <p:nvPr/>
        </p:nvPicPr>
        <p:blipFill>
          <a:blip r:embed="rId2"/>
          <a:srcRect l="0" t="-55169" r="0" b="-55169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30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making salt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is shown picking up salt from the beach – ‘making’ salt – which was illegal for Indian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Even today foreign companies try to prevent Indians using their own natural resources, such as drugs companies which try to patent Indian medicinal plant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Placeholder 5" descr="1930_picks_up_salt.jpg"/>
          <p:cNvPicPr/>
          <p:nvPr/>
        </p:nvPicPr>
        <p:blipFill>
          <a:blip r:embed="rId2"/>
          <a:srcRect l="-105" t="0" r="-105" b="0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31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round the table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It seemed that the British government was taking Indian demands for independence seriously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A conference was organised in London, but nothing changed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Placeholder 5" descr="1931_Gandhi_Round_Table.jpg"/>
          <p:cNvPicPr/>
          <p:nvPr/>
        </p:nvPicPr>
        <p:blipFill>
          <a:blip r:embed="rId2"/>
          <a:srcRect l="0" t="-53538" r="0" b="-53538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31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St James Palace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hile in England, Gandhi met the King and the Prime Minister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e told a reporter: “You people wear plus-fours, mine are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minus-fours!”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Placeholder 5" descr="1931_Gandhi_Saint-James-Palace.jpg"/>
          <p:cNvPicPr/>
          <p:nvPr/>
        </p:nvPicPr>
        <p:blipFill>
          <a:blip r:embed="rId2"/>
          <a:srcRect l="0" t="-4469" r="0" b="-4469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31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Kingsley Hall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I find that my work lies outside the conference”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hile in London, Gandhi stayed in the poor East End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he Gandhi Foundation maintains its HQ at Kingsley Hall to this day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Placeholder 5" descr="1931_Gandhi_at_Kingsley_Hall.jpg"/>
          <p:cNvPicPr/>
          <p:nvPr/>
        </p:nvPicPr>
        <p:blipFill>
          <a:blip r:embed="rId2"/>
          <a:srcRect l="0" t="-42612" r="0" b="-42612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31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Lancashire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In India, Gandhi had campaigned against the import of cotton cloth from England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his caused many textile workers in England to lose their job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visited them to show his solidarity – and they showed theirs!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Placeholder 5" descr="1931_Gandhi_Darwen_hands.jpg"/>
          <p:cNvPicPr/>
          <p:nvPr/>
        </p:nvPicPr>
        <p:blipFill>
          <a:blip r:embed="rId2"/>
          <a:srcRect l="0" t="-45030" r="0" b="-45030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32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in jail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went to jail many times in both South Africa and India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e used his time in jail to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read and study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‘</a:t>
            </a: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hoever has a taste for reading good books is able to bear loneliness in any place with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reat ease”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Placeholder 5" descr="1932_Gandhi_in_jail_caricature.jpg"/>
          <p:cNvPicPr/>
          <p:nvPr/>
        </p:nvPicPr>
        <p:blipFill>
          <a:blip r:embed="rId2"/>
          <a:srcRect l="0" t="-62207" r="0" b="-62207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Gandhi’s mother Putlibai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Putlibai had a strong spiritual influence on Gandhi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She was a devout Hindu, who used to fast regularly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She also took advice from a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Jain priest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Placeholder 5" descr="1870s?_Putlibai_Gandhi_Mother.jpg"/>
          <p:cNvPicPr/>
          <p:nvPr/>
        </p:nvPicPr>
        <p:blipFill>
          <a:blip r:embed="rId2"/>
          <a:srcRect l="0" t="-10188" r="0" b="-10188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37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with Nehru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had good relations with Nehru, who became Prime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Minister of India in 1947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owever their visions for India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ere different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Nehru wanted industrialisation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had traditional village life at the heart of his vision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Placeholder 5" descr="1937_Nehru_Gandhi.jpg"/>
          <p:cNvPicPr/>
          <p:nvPr/>
        </p:nvPicPr>
        <p:blipFill>
          <a:blip r:embed="rId2"/>
          <a:srcRect l="0" t="-59732" r="0" b="-59732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6460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39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letter to Hitler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787040"/>
            <a:ext cx="35812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itler never saw the letter because British officials intervened to stop it. 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ould Hitler have replied?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later published his letter in his journal ‘Harijan’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Placeholder 5" descr="1939_letter_to_Hitler.jpg"/>
          <p:cNvPicPr/>
          <p:nvPr/>
        </p:nvPicPr>
        <p:blipFill>
          <a:blip r:embed="rId2"/>
          <a:srcRect l="0" t="-13457" r="0" b="-13457"/>
          <a:stretch/>
        </p:blipFill>
        <p:spPr>
          <a:xfrm>
            <a:off x="4267080" y="152280"/>
            <a:ext cx="4481640" cy="65167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40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‘frontier Gandhi’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had good relations with many Muslim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ere he is shown with Abdul Ghaffar Khan, who was known as the ‘frontier Gandhi’, for his work promoting peace on the border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ith Afghanistan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Placeholder 5" descr="1940_Gandhi_and_Abdul_Gaffa_Khan.jpg"/>
          <p:cNvPicPr/>
          <p:nvPr/>
        </p:nvPicPr>
        <p:blipFill>
          <a:blip r:embed="rId2"/>
          <a:srcRect l="0" t="-51324" r="0" b="-51324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40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tending a leper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had wanted to be a doctor rather than a lawyer, and he nursed many people throughout his lif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Placeholder 5" descr="1940_Gandhi_leper.jpg"/>
          <p:cNvPicPr/>
          <p:nvPr/>
        </p:nvPicPr>
        <p:blipFill>
          <a:blip r:embed="rId2"/>
          <a:srcRect l="0" t="-37320" r="0" b="-37320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40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‘the scientist’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ere he is shown researching leprosy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’s autobiography is called ‘My Experiments with Truth’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e wanted to bring ‘scientific’ methods to the exploration of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uman morality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Placeholder 5" descr="1940_Gandhi_microscope.jpg"/>
          <p:cNvPicPr/>
          <p:nvPr/>
        </p:nvPicPr>
        <p:blipFill>
          <a:blip r:embed="rId2"/>
          <a:srcRect l="0" t="-10091" r="0" b="-10091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42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spinning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was inspired by Ruskin’s ideal of self-relianc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e taught Indians to provide for themselves and not depend on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he British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he spinning wheel became the symbol of independence, and was used on the flag of the Indian National Congress.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Placeholder 5" descr="1942_Gandhi_spinning.jpg"/>
          <p:cNvPicPr/>
          <p:nvPr/>
        </p:nvPicPr>
        <p:blipFill>
          <a:blip r:embed="rId2"/>
          <a:srcRect l="0" t="-49254" r="0" b="-49254"/>
          <a:stretch/>
        </p:blipFill>
        <p:spPr>
          <a:xfrm>
            <a:off x="5091120" y="396720"/>
            <a:ext cx="3657600" cy="531828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Indian Flag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263" name="Content Placeholder 8" descr="INC_wheel_flag.jpg"/>
          <p:cNvPicPr/>
          <p:nvPr/>
        </p:nvPicPr>
        <p:blipFill>
          <a:blip r:embed="rId2"/>
          <a:srcRect l="0" t="-34979" r="0" b="-34979"/>
          <a:stretch/>
        </p:blipFill>
        <p:spPr>
          <a:xfrm>
            <a:off x="549360" y="1600200"/>
            <a:ext cx="3840120" cy="4343400"/>
          </a:xfrm>
          <a:prstGeom prst="rect">
            <a:avLst/>
          </a:prstGeom>
          <a:ln w="0">
            <a:noFill/>
          </a:ln>
        </p:spPr>
      </p:pic>
      <p:pic>
        <p:nvPicPr>
          <p:cNvPr id="264" name="Content Placeholder 9" descr="indian_wavy_flag.gif"/>
          <p:cNvPicPr/>
          <p:nvPr/>
        </p:nvPicPr>
        <p:blipFill>
          <a:blip r:embed="rId3"/>
          <a:srcRect l="0" t="-29165" r="0" b="-29165"/>
          <a:stretch/>
        </p:blipFill>
        <p:spPr>
          <a:xfrm>
            <a:off x="4751280" y="1600200"/>
            <a:ext cx="3840120" cy="4343400"/>
          </a:xfrm>
          <a:prstGeom prst="rect">
            <a:avLst/>
          </a:prstGeom>
          <a:ln w="0">
            <a:noFill/>
          </a:ln>
        </p:spPr>
      </p:pic>
      <p:sp>
        <p:nvSpPr>
          <p:cNvPr id="265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0"/>
          <p:cNvSpPr/>
          <p:nvPr/>
        </p:nvSpPr>
        <p:spPr>
          <a:xfrm>
            <a:off x="503280" y="1828800"/>
            <a:ext cx="38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 flag with spinning wh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1"/>
          <p:cNvSpPr/>
          <p:nvPr/>
        </p:nvSpPr>
        <p:spPr>
          <a:xfrm>
            <a:off x="4694400" y="1828800"/>
            <a:ext cx="38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 flag with Dharma wh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44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with Jinnah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he Partition of Pakistan from India in 1947 broke Gandhi’s heart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believed that Hindus, Muslims, Sikhs and Christians should all live together in India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Placeholder 5" descr="1944_Jinnah_Gandhi.jpg"/>
          <p:cNvPicPr/>
          <p:nvPr/>
        </p:nvPicPr>
        <p:blipFill>
          <a:blip r:embed="rId2"/>
          <a:srcRect l="0" t="-44410" r="0" b="-44410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47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fasting 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fasted so that people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ould stop fighting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ithout his fasting, it is probable that more people would have died in the riots of 1947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Placeholder 5" descr="Gandhi_hat.jpg"/>
          <p:cNvPicPr/>
          <p:nvPr/>
        </p:nvPicPr>
        <p:blipFill>
          <a:blip r:embed="rId2"/>
          <a:srcRect l="0" t="-20382" r="0" b="-20382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47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the Mountbattens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continued to work at the highest political level until the end of his lif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Placeholder 5" descr="1947_Gandhi_with_the_Mounbattens.jpg"/>
          <p:cNvPicPr/>
          <p:nvPr/>
        </p:nvPicPr>
        <p:blipFill>
          <a:blip r:embed="rId2"/>
          <a:srcRect l="0" t="-55265" r="0" b="-55265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Gandhi’s father Karamchand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’s father was a politician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e was Prime Minister of Porbandar, a small princely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state in Western India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Placeholder 5" descr="1870s?_Karamchand_Gandhi_Father.jpg"/>
          <p:cNvPicPr/>
          <p:nvPr/>
        </p:nvPicPr>
        <p:blipFill>
          <a:blip r:embed="rId2"/>
          <a:srcRect l="0" t="-2956" r="0" b="-2956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48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hen he was assassinated by a Hindu extremist his last words were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‘Hey Rama’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(O God)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Placeholder 5" descr="1948_MKGandhi.jpg"/>
          <p:cNvPicPr/>
          <p:nvPr/>
        </p:nvPicPr>
        <p:blipFill>
          <a:blip r:embed="rId2"/>
          <a:srcRect l="0" t="-10069" r="0" b="-10069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Placeholder 15" descr="gf-banner.jpg"/>
          <p:cNvPicPr/>
          <p:nvPr/>
        </p:nvPicPr>
        <p:blipFill>
          <a:blip r:embed="rId2"/>
          <a:srcRect l="0" t="-19083" r="0" b="-19083"/>
          <a:stretch/>
        </p:blipFill>
        <p:spPr>
          <a:xfrm>
            <a:off x="182520" y="1170000"/>
            <a:ext cx="8788320" cy="21067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7600" y="3328920"/>
            <a:ext cx="8345520" cy="10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News Gothic MT"/>
              </a:rPr>
              <a:t>www.gandhifoundation.org</a:t>
            </a:r>
            <a:endParaRPr b="0" lang="en-US" sz="4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17600" y="4343040"/>
            <a:ext cx="8345520" cy="19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contact@gandhifoundation.org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883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as a teenager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played sports such as tennis and cricket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hen he lied to his parents or stole from his brother he felt very guilty!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Placeholder 5" descr="GandhiTeen1883.jpg"/>
          <p:cNvPicPr/>
          <p:nvPr/>
        </p:nvPicPr>
        <p:blipFill>
          <a:blip r:embed="rId2"/>
          <a:srcRect l="0" t="-5560" r="0" b="-5560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886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with brother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had two brothers and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one sister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e was the youngest child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ere he is shown with his elder brother Laxmida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Placeholder 5" descr="1886_Gandhi_and_brother_Laxmidas.jpg"/>
          <p:cNvPicPr/>
          <p:nvPr/>
        </p:nvPicPr>
        <p:blipFill>
          <a:blip r:embed="rId2"/>
          <a:srcRect l="0" t="-5248" r="0" b="-5248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890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in England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his the first picture of Gandhi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 in England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was a lifelong vegetaria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e is shown on a visit of the Vegetarian Society to the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Isle of Wight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Placeholder 5" descr="1890-IoW-veggysoc.jpg"/>
          <p:cNvPicPr/>
          <p:nvPr/>
        </p:nvPicPr>
        <p:blipFill>
          <a:blip r:embed="rId2"/>
          <a:srcRect l="0" t="-45861" r="0" b="-45861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891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law student 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trained to be a barrister at the Inner Temple in London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Placeholder 5" descr="1891_Gandhi_student_London.jpg"/>
          <p:cNvPicPr/>
          <p:nvPr/>
        </p:nvPicPr>
        <p:blipFill>
          <a:blip r:embed="rId2"/>
          <a:srcRect l="0" t="-5030" r="0" b="-5030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895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as a barrister 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After a brief period back in India, Gandhi went to South Africa to practice law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e was retained by a firm of Muslim merchants, headed by Dada Abdullah Sheth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Placeholder 5" descr="Gandhi_barrister.jpg"/>
          <p:cNvPicPr/>
          <p:nvPr/>
        </p:nvPicPr>
        <p:blipFill>
          <a:blip r:embed="rId2"/>
          <a:srcRect l="0" t="-37583" r="0" b="-37583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09:23:58Z</dcterms:created>
  <dc:creator>Matthew Bain</dc:creator>
  <dc:description/>
  <dc:language>en-US</dc:language>
  <cp:lastModifiedBy>Matthew Bain</cp:lastModifiedBy>
  <dcterms:modified xsi:type="dcterms:W3CDTF">2008-12-11T09:40:55Z</dcterms:modified>
  <cp:revision>28</cp:revision>
  <dc:subject/>
  <dc:title>Slide 1</dc:title>
</cp:coreProperties>
</file>